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1AD4C-3C20-46F8-914D-CBBD90598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E327F-E0E5-4D89-A4D5-71E7CE379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D5AE88-11A5-44CA-8D48-BB26F6D35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4EC379-FA9A-4D9A-9C06-A47056427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E13BCF-9927-44C0-9A28-BB675FBD3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996863-FF3A-4851-B046-F48F283CF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171ED8-663D-4418-954F-D97847C8A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137AAF-A584-45DA-B182-D803AAE44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7AC997-E37C-4E02-B5FC-3518403ED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5A6CD7-4708-47AA-AFFA-4F00B6546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CFBBCE-4DAD-44B3-9AB7-7866D95B4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BB08A8-5DFE-47A2-B884-B59D605B3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2D0BE-6324-475C-BCA7-CFAB50C9A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D76A77-EC5A-4BA0-9672-22D144AB8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EF6422-CA7F-4609-817A-6CAD28CDF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ABB92C-9B75-413D-B423-084D90F0B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26AD65-9A1D-4621-B72A-F2263F55A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0499F3-32F3-4C27-9182-CB1CBC55F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24654E-C8EC-4D5D-9D3F-45986C120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A3D6E0-842A-4830-9B24-068364CBF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481CB5-CD00-440F-A578-CD455E094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3CA741-CC93-40BA-A130-3FC50C06F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62C775-28C1-4867-AE5A-D07A177FC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FAEC7-9D57-481B-A8DC-F3154B762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8244EB-EB3D-4691-874E-84F3A1D12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BE9920-3DC5-408B-BD82-4C543ABB8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BFC70C-5BDD-4977-8FD2-65A3505B2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62087C-0829-4B6E-BCF1-48248416C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DF8EEC-C2D0-4495-B4F1-B127B29D5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2BAB09-9993-44F0-99BF-5F456F852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2C245C-7CEB-478E-8A88-A333079E5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ECAAC1-E51D-4D45-A924-C2833B03B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671A94-B06B-4111-8B54-0D79DDEBC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0381D2-C970-4653-98D6-EC7F37592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16829-620D-4DDC-B147-71D3CFAC9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AFA773-3F86-422E-8EB7-D8930C45B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8AC02A-CF11-4688-9955-410FB5CB2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F2E84B-9C41-4FF5-A65C-76E036ABD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9F84B9-B609-454F-8077-8607DA3D8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2AA935-0C16-4AF6-9198-F721917E4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C3AFE1-FC61-4511-8B28-7DCC86111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40281C-09CE-4E65-AC5C-C1CF7BD0B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26FE96-6B57-439A-B0BA-C4A4EFF35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BA1C22-95A1-492A-8E6E-D52A237EE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BF6731-6B77-4AD9-A6F2-9EA06EF68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21055-105A-4AEE-90E4-BE1C49020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531230-F47C-4495-A6D2-C10ED9DF6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96A09C-7C3D-4B96-942C-A37BBAE25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3DBCA1-ECC2-4ED4-949A-67602E22D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3413CB-CD84-445D-8059-9C019EDCB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321C4A-54B6-462B-834E-83AA0C1AB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FF3414-B80F-4689-8ACD-D43C31882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EAF08E-A976-48F6-991C-608952A75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9E95A1-48D3-490A-993C-6C0C8AA29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EE8323-778F-497C-A35C-596105C99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EFAF42-836C-4D83-BB4C-3E07BEB77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D91C1-DB37-4297-A6DA-F94450A75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4114DF-61E8-4D35-81C8-1D6CCFAD7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E48E4D-AAB5-4E8C-860C-A805D1A7E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A906ED-4677-467F-9289-1DEB0EB84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04E058-6900-485D-B551-DECCA6813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F580E8-332F-430C-8BFF-55AF1F291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D357F8-342D-413D-A644-C6590189B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32F33D-ED11-4D97-B0AE-785ED6CB1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642C0FA-6459-4870-9729-0D05F13C1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990962A-B0E2-4660-939C-364AC419C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46EC4F7-321C-4AC4-B450-39DE56112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4D4CB-330D-4DE6-8870-D66282E5C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0D55847-27D3-4B5A-BE76-E25656751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1EB348A-12AB-4B23-A938-04886564F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5873DB2-317D-403C-B035-CC3DE0B79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28133AC-0827-421B-A378-D1E59A2A8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C8F24F4-B6DB-4BB9-B77C-CF7FD787E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FB81D55-6424-48C1-8B92-3D38F2E60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52FA8D6-59FF-495F-A198-7CED2D1D4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ADC670E-EBFD-43AC-8F2C-856C39241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EFD8261-11F5-4F7F-8E01-7F8697B24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CBF2370-B230-475B-8BD1-5BA59E16E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34D69-23B7-4489-B316-DE4979690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8059E6C-5A7A-4997-8A16-A6D1B3E71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EF8C39D-32FE-4915-BAE9-037442230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73888F0-68DC-4008-B7B4-DC8CAA877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D0AB96F-0019-4DF0-AD51-78DC96000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2585730-E635-404F-8BBC-236D393A2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6D962C2-4898-4AAC-B48B-1F82D16A3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B0F2E98-A130-4A99-BABA-D11EBC42A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530C7ED-40D0-4F02-860C-C1481173E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BB99123-96C9-46BB-9969-965CB8264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99E9FBC-78ED-45DD-9EDD-BA5AC19DD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7DEB7-59E6-4DB5-8B2C-7F115F341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4EFAA0C-4306-4BD8-86FC-2F0D8D484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9B47232-7D5C-4DF6-9F95-F2E0F6EB7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70F13B7-9D08-4AD0-A770-94A7384A6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7ED0D39-9184-4B5F-99A4-E4BFD38E9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6595A0B-1221-4207-AC3A-1C9E011B2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8434D50-ADAD-4A3E-A82E-CF722FE06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5C2AC4F-367F-47AC-8738-3BC0C43CD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D1D3548-8632-40F7-8688-4E47009E6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E2CEE54-F0A4-4B4E-A9A8-3C645FD3F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BEFE6A7-8C29-4D66-9520-F9DFA97F6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358EE-0ABE-494A-81D6-F0192740C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581109F-2002-482C-B229-E426A8C49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1B61684-0740-440C-A6F5-B7D534768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57352DD-103E-44F4-ACB9-15F06B7F3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03539D7-F606-45E2-BFBD-E5DA45A43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BBEAA0E-679E-4478-9348-2EEDE920C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AA05CED-411C-46A8-A43A-FA5A0DC2A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B759E82-1462-463E-9140-0381AA517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66E1FF5-D48C-49CA-BACC-5F475DC73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186EC1C-AA3B-49D3-841E-F4F1AED93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07B9AF1-DAA5-4C3E-BCBD-8C6B16A51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B4239-E317-4084-8F3A-07C58E181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31EB2-D4A1-4DC1-9923-5FBFD822C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331E71B-A9B9-4729-9093-119E81F52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EA33360-5981-469C-BC39-34C5858F0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75A1AF6-90B3-4C37-AD02-0DCCA2DCC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7375947-81BE-451E-90FA-D20C7E42D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D7368D9-534D-4B74-8348-27325E5F3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406F733-C3E2-4592-9B28-9EF94506A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5E660AC-A47A-4791-9E59-BE09E91ED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4073DBD-EA34-44F6-921B-D1EAEE172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482BD9F-5A3C-4AE7-A9C9-01E43A71F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368EE31-D649-4CE2-A2D7-0FCA0EE56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D540F-EA47-43AD-B202-CE45AB8D7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417775A-B4F6-479E-ADBC-0139E416D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AFA0A90-CC10-45CE-A457-8F6818411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B21A442-8483-4316-8DD3-0B52C21CA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3A8F709-F706-47EB-BED4-19F361425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98BA35A-82FF-4DE1-9568-1E41CE3B9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5A160AD-B17A-4A52-8432-4FAE3224C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A2FD372-5295-4FDD-BC2E-E1FFFDDA3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46C871B-B3C1-45E1-8FAC-5ACF9FFB0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CA6AF61-3871-47D3-8718-90224A6A4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F069E00-7FAB-445D-99A6-0DC5F78CB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270E7-7300-4545-96B0-006CE1FC1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E1BA0B0-5C1C-469A-86B4-F4ADBE7D7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6473E49-509E-46F4-AE4A-3F8A61349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CD72711-FBF5-4128-8FE3-F57D117E9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FAA1F30-F7CD-42B5-9C96-F3BBDB853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209F66C-354C-4C04-8790-C55B159C7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A5E6384-FD0D-4322-9EBA-BE7D4517C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D6CF0E8-0B8A-4D7D-BBA0-3CD19BB57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219645E-2F5E-40FE-934E-D8C6F4F4E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030A912-423E-45BD-A458-006D79D25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841D0BD-4BDE-4B95-93D1-54A628817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20189-3738-4F16-8EF6-4F052AC8A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7D21767-570E-47F6-8E5B-4C212E1C2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4C3D69C-A3FE-4F85-90D8-645907652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ABC5010-E849-4697-85C1-4A4FA39F4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D8B7658-89B8-495B-954A-9A2C49B4F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BAF54B7-B0FF-4C97-B138-DC7D5D37E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6D1E80A-5F09-48BE-ABB6-4BD47ECD0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4B2AC63-195E-4BEE-B87A-42C19A865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91F0F2C-2E2E-4555-B6A2-16471D359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47C7FCB-9652-4308-BF70-68D44380E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3306CC3-CED0-4491-9E43-9D02A6B7B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E3A1A-29E3-4C53-85F0-152D1EAB5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FE602EC-48ED-4121-8BF0-0D99CBF39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954D1F7-E29D-461C-9F95-9252C70EA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8829D36-5DA0-4C72-B4F3-D7745DE4B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37198A2-58B1-4EBF-AE86-6B62BA453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A13756F-5376-4158-B942-FC01A1C4E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0200584-1D18-42AF-8A69-F63079B31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EE03877-F267-4582-8FD6-EFAC6FE85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AA1C6EC-C993-41F8-90A7-EC8AD350F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1A8CA06-B29F-4AFC-A1E8-BC1007D2D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63DB6C9-6754-4781-81AD-6685CA150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1886C35-5223-4441-B3A2-497FCF436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93F4663-5C33-46B5-9270-6B5DD1B17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8B89852-EC9A-4DC6-B43D-D6801EC44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37A2D-C236-490C-9827-60ABE0B03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050456-E61A-4C3D-B170-8A3B620CE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A20C82-0632-4ADB-B113-318791C1A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7D9930-C7AB-429E-85A3-CCF41CF98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F1C53-1F05-4A6E-8D1C-37D6681CC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2EA882-8D5F-4BC6-8881-99434B478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E657D8-85BB-4B65-A945-8030D27E7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D1EEA8-D12B-4D57-91A5-2FFAE9BAD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12A2B8-97FE-4D4C-9D49-AA35CE8CC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3CD90E-3918-4B53-9CEB-27949F426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2F2301-6BBE-4297-AD9F-A433F4DD4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8BEEFC-77C5-4CEB-9F7B-6CCC5DD24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8B28D7-15EC-43F0-AE32-74F19A77F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F08AD6-DA68-49F1-BAB3-1FF8FF8BF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BFD7B8-0BAB-4BA5-9736-963470544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1D797-71C8-46E1-A28E-B1123D179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0CD916-24DC-4841-B44D-C3907CBB6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A65531-8201-4286-95C1-747027AB8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1A6A23-7FDC-4829-ADE3-380C90438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3D6E2F-AD0E-4B52-BB3D-455114E42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1FCEC4-18E8-41F7-A4E8-755BFE020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FC909D-B714-4131-8D12-D845C0CDD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35702A-7F32-452A-BF1E-9E5C4DE80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36F9F4-85D2-4629-B81A-5F1425689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265732-89F9-449C-9DCE-6B6803396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405228-7317-4E8F-AA98-823210258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54828-4F7F-4A9C-8C31-AD296B4E8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19DD1D-BA73-41C5-94F1-69ABB8A22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1B60CA-CCF5-42F2-AE8D-EFFE27055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166EE1-10FE-47D8-AFB3-75E040777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3F4AB0-DC7E-415A-9DF2-6CB258A8C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B789A0-4398-42A7-BB64-6EEC8AE8A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343D76-DF72-4819-B47A-EDCFC3120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417AD7-8C58-44FA-841B-3096C7002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92B23D-D45B-4341-B351-1112C999D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B61F82-BCA0-47D2-9026-BF38D58F3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BBFC3D-4D20-4F9E-849F-CFE97E663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EAD5E-47F8-4118-8EF3-062ADD742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4CA13D-2DBC-4A29-A361-12F82E523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67AC7D-9B03-4279-9335-62A6CB32B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472824-FC67-4FB0-B337-4D4232EFA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99E4E1-AB51-4281-BEFD-F601809AB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961A65-FB12-4526-89AA-BD0CD5917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EB3A04-4155-4899-B0C1-0AFD5CEC6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EA3C2D-A5A1-497E-B64E-3C27EE4FB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EDCCA6-8EF8-400A-B178-D844B6566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3011B8-7D91-478D-BCED-C78568343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75F376-D2FC-4F30-B4EF-D7C4D995F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A1E46-A2BE-435D-BB09-1AFF7458A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1998A8-CA06-498F-8A7A-8F1DA0D01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2E9F06-A2FD-4006-AE01-67FBF4355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289406-6E8E-4A5E-8DBC-92897E748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6C28CE-ED55-407C-8F72-46C2B627A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E3B049-D358-4B7F-A42D-25759ACF0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D5E934-BC93-455B-892A-ED623392B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D22B84-6D45-4565-889B-EE5A61D4A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84B2ED-B171-4795-AC59-26ED9D394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7955FE-F33C-47DD-9A16-09DC95180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548E88-7B58-488B-911F-A84FAB638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25A25-B7DC-4EA0-9548-98E496445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0AE7C9-8848-47D9-82D0-9AEE30256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9AA671-C95C-40BE-BEF4-FCD8F7A55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984C90-4EAF-48CD-9C60-030149203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F6EE68-3BCE-4C8E-84CD-CE443A387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650BFC-724E-495E-8896-A9345302A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E4E86A-8332-4343-9F81-724F68E64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6ACFCB-8895-4377-B91B-65A8148D9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0DF7A4-8C42-42DC-AAF8-562C90426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B5DE2A-F8CC-4C46-BFD8-EA86BF5F0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07310D-73F3-44F0-998B-9EA258BBA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BB364-A2B7-46EC-BE15-1E13625D7AE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346F4-3938-4BA8-90C6-693E8B12697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04B57-834C-4D24-B450-E0A1A38EF76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4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DBCF2-E9CE-4758-BDD0-463AA5BFB51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46C5F-86AC-4689-A210-CCF59EE926D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7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C90E6-15B3-4E95-A1F0-173408852F4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EE32E-15C6-46E4-9CE6-3BCF4039813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ACC43-72A1-4C9B-BF30-1C65BEA45C7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318DA-A279-4CF1-A67B-459F52B4DBE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4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5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6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07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08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09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0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1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2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4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5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0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1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A07EB-6CE7-4FA5-B140-C55F4AD4185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9B942-FBA4-4ABC-B601-B34199A1BF6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6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67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68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3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4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A4DE4-65EC-44DC-8BC5-E4EDF139BF0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7A11C-2F40-42CD-B4D1-6DF75972758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41D20-766A-4826-9AE9-B43FDE2080F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366E3-4D27-4D72-8780-27234012730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4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5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6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7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8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1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2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F0315-2ED3-4A3F-B6EC-76EB3D4630D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9EDE2-780C-4A21-9080-48A7AE5B61F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8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EA687-6028-4904-B298-04112C6CEC7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0A3EC-DF3D-4110-BBD5-E141BE469F5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2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3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4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5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6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7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68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0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01213-845A-483F-867D-FE8B2B91098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D6DFE-944B-4610-A1B3-0D1424E6AE0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0C801-6168-46FA-8E39-026755C2238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049CF-D374-46BF-BB7E-9A721D20BF3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4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5D09B-4FD0-4DF6-9D21-F2AC5B0B747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A7B38-ED5F-4140-8AFC-1B1CDF1319B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8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59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0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1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2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3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4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5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6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67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68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69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0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1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2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4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5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7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D2F25-B34B-4D1B-9CD3-44273DFE94D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65433-3079-47F7-88A9-CFCEEF2E763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图片 3078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020000" y="115920"/>
            <a:ext cx="1944720" cy="6476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6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28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4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F7DBB-F50F-45CB-8274-1967EA6C73A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314E4-8DDA-4107-A1B0-7032A28F281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15A60-1ADA-47C6-9109-B451F977BAD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9A472-5155-4B52-B12F-D919F934278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3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4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5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0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1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4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C7778-F4F7-4C79-8870-5DF564B2974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9554A-4AA0-4884-A6DC-2ABA9AF1CF7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EEE2D-509F-4F7D-93D6-96448EE2C01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25199-B220-428C-A8C0-AB7EA9F713C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F65A3-D734-45F5-BD18-0D09E1E4469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A89D0-0FE8-43E9-A044-D6EA18CB61E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5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6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67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1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4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87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88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89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0FF70-7C31-416B-8D5A-F6C4E33C570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B5BF1-A139-4383-9203-45D1F239062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1" name="图片 2051" descr=""/>
          <p:cNvPicPr/>
          <p:nvPr/>
        </p:nvPicPr>
        <p:blipFill>
          <a:blip r:embed="rId1"/>
          <a:stretch/>
        </p:blipFill>
        <p:spPr>
          <a:xfrm>
            <a:off x="1347840" y="2981160"/>
            <a:ext cx="6448320" cy="8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4" name="图片 22529" descr=""/>
          <p:cNvPicPr/>
          <p:nvPr/>
        </p:nvPicPr>
        <p:blipFill>
          <a:blip r:embed="rId1"/>
          <a:stretch/>
        </p:blipFill>
        <p:spPr>
          <a:xfrm>
            <a:off x="452520" y="844560"/>
            <a:ext cx="8238960" cy="5753160"/>
          </a:xfrm>
          <a:prstGeom prst="rect">
            <a:avLst/>
          </a:prstGeom>
          <a:ln w="0">
            <a:noFill/>
          </a:ln>
        </p:spPr>
      </p:pic>
      <p:pic>
        <p:nvPicPr>
          <p:cNvPr id="1025" name="Picture 1" descr=""/>
          <p:cNvPicPr/>
          <p:nvPr/>
        </p:nvPicPr>
        <p:blipFill>
          <a:blip r:embed="rId2"/>
          <a:stretch/>
        </p:blipFill>
        <p:spPr>
          <a:xfrm>
            <a:off x="1547640" y="1844640"/>
            <a:ext cx="505080" cy="449280"/>
          </a:xfrm>
          <a:prstGeom prst="rect">
            <a:avLst/>
          </a:prstGeom>
          <a:ln w="0">
            <a:noFill/>
          </a:ln>
        </p:spPr>
      </p:pic>
      <p:pic>
        <p:nvPicPr>
          <p:cNvPr id="1026" name="Picture 1" descr=""/>
          <p:cNvPicPr/>
          <p:nvPr/>
        </p:nvPicPr>
        <p:blipFill>
          <a:blip r:embed="rId3"/>
          <a:stretch/>
        </p:blipFill>
        <p:spPr>
          <a:xfrm>
            <a:off x="1476360" y="2708280"/>
            <a:ext cx="504720" cy="449280"/>
          </a:xfrm>
          <a:prstGeom prst="rect">
            <a:avLst/>
          </a:prstGeom>
          <a:ln w="0">
            <a:noFill/>
          </a:ln>
        </p:spPr>
      </p:pic>
      <p:pic>
        <p:nvPicPr>
          <p:cNvPr id="1027" name="Picture 1" descr=""/>
          <p:cNvPicPr/>
          <p:nvPr/>
        </p:nvPicPr>
        <p:blipFill>
          <a:blip r:embed="rId4"/>
          <a:stretch/>
        </p:blipFill>
        <p:spPr>
          <a:xfrm>
            <a:off x="1547640" y="3529080"/>
            <a:ext cx="505080" cy="449280"/>
          </a:xfrm>
          <a:prstGeom prst="rect">
            <a:avLst/>
          </a:prstGeom>
          <a:ln w="0">
            <a:noFill/>
          </a:ln>
        </p:spPr>
      </p:pic>
      <p:pic>
        <p:nvPicPr>
          <p:cNvPr id="1028" name="Picture 1" descr=""/>
          <p:cNvPicPr/>
          <p:nvPr/>
        </p:nvPicPr>
        <p:blipFill>
          <a:blip r:embed="rId5"/>
          <a:stretch/>
        </p:blipFill>
        <p:spPr>
          <a:xfrm>
            <a:off x="1547640" y="5300640"/>
            <a:ext cx="505080" cy="44928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1" descr=""/>
          <p:cNvPicPr/>
          <p:nvPr/>
        </p:nvPicPr>
        <p:blipFill>
          <a:blip r:embed="rId6"/>
          <a:stretch/>
        </p:blipFill>
        <p:spPr>
          <a:xfrm>
            <a:off x="1547640" y="6107040"/>
            <a:ext cx="50508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32" name="图片 21505" descr=""/>
          <p:cNvPicPr/>
          <p:nvPr/>
        </p:nvPicPr>
        <p:blipFill>
          <a:blip r:embed="rId1"/>
          <a:stretch/>
        </p:blipFill>
        <p:spPr>
          <a:xfrm>
            <a:off x="133200" y="1090440"/>
            <a:ext cx="8877600" cy="4677120"/>
          </a:xfrm>
          <a:prstGeom prst="rect">
            <a:avLst/>
          </a:prstGeom>
          <a:ln w="0">
            <a:noFill/>
          </a:ln>
        </p:spPr>
      </p:pic>
      <p:pic>
        <p:nvPicPr>
          <p:cNvPr id="1033" name="Picture 1" descr=""/>
          <p:cNvPicPr/>
          <p:nvPr/>
        </p:nvPicPr>
        <p:blipFill>
          <a:blip r:embed="rId2"/>
          <a:stretch/>
        </p:blipFill>
        <p:spPr>
          <a:xfrm>
            <a:off x="1979640" y="5243400"/>
            <a:ext cx="504720" cy="449280"/>
          </a:xfrm>
          <a:prstGeom prst="rect">
            <a:avLst/>
          </a:prstGeom>
          <a:ln w="0">
            <a:noFill/>
          </a:ln>
        </p:spPr>
      </p:pic>
      <p:pic>
        <p:nvPicPr>
          <p:cNvPr id="1034" name="Picture 1" descr=""/>
          <p:cNvPicPr/>
          <p:nvPr/>
        </p:nvPicPr>
        <p:blipFill>
          <a:blip r:embed="rId3"/>
          <a:stretch/>
        </p:blipFill>
        <p:spPr>
          <a:xfrm>
            <a:off x="4572000" y="5229360"/>
            <a:ext cx="504720" cy="449280"/>
          </a:xfrm>
          <a:prstGeom prst="rect">
            <a:avLst/>
          </a:prstGeom>
          <a:ln w="0">
            <a:noFill/>
          </a:ln>
        </p:spPr>
      </p:pic>
      <p:pic>
        <p:nvPicPr>
          <p:cNvPr id="1035" name="Picture 1" descr=""/>
          <p:cNvPicPr/>
          <p:nvPr/>
        </p:nvPicPr>
        <p:blipFill>
          <a:blip r:embed="rId4"/>
          <a:stretch/>
        </p:blipFill>
        <p:spPr>
          <a:xfrm>
            <a:off x="7236000" y="5243400"/>
            <a:ext cx="50472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5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38" name="图片 20481" descr=""/>
          <p:cNvPicPr/>
          <p:nvPr/>
        </p:nvPicPr>
        <p:blipFill>
          <a:blip r:embed="rId1"/>
          <a:stretch/>
        </p:blipFill>
        <p:spPr>
          <a:xfrm>
            <a:off x="1933560" y="1990800"/>
            <a:ext cx="5276880" cy="2876400"/>
          </a:xfrm>
          <a:prstGeom prst="rect">
            <a:avLst/>
          </a:prstGeom>
          <a:ln w="0">
            <a:noFill/>
          </a:ln>
        </p:spPr>
      </p:pic>
      <p:pic>
        <p:nvPicPr>
          <p:cNvPr id="1039" name="Picture 1" descr=""/>
          <p:cNvPicPr/>
          <p:nvPr/>
        </p:nvPicPr>
        <p:blipFill>
          <a:blip r:embed="rId2"/>
          <a:stretch/>
        </p:blipFill>
        <p:spPr>
          <a:xfrm>
            <a:off x="3132000" y="4292640"/>
            <a:ext cx="505080" cy="449280"/>
          </a:xfrm>
          <a:prstGeom prst="rect">
            <a:avLst/>
          </a:prstGeom>
          <a:ln w="0">
            <a:noFill/>
          </a:ln>
        </p:spPr>
      </p:pic>
      <p:pic>
        <p:nvPicPr>
          <p:cNvPr id="1040" name="Picture 1" descr=""/>
          <p:cNvPicPr/>
          <p:nvPr/>
        </p:nvPicPr>
        <p:blipFill>
          <a:blip r:embed="rId3"/>
          <a:stretch/>
        </p:blipFill>
        <p:spPr>
          <a:xfrm>
            <a:off x="5738760" y="4292640"/>
            <a:ext cx="50472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0" dur="5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5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grpSp>
        <p:nvGrpSpPr>
          <p:cNvPr id="1043" name="组合 8195"/>
          <p:cNvGrpSpPr/>
          <p:nvPr/>
        </p:nvGrpSpPr>
        <p:grpSpPr>
          <a:xfrm>
            <a:off x="104760" y="115920"/>
            <a:ext cx="8934480" cy="6481800"/>
            <a:chOff x="104760" y="115920"/>
            <a:chExt cx="8934480" cy="6481800"/>
          </a:xfrm>
        </p:grpSpPr>
        <p:pic>
          <p:nvPicPr>
            <p:cNvPr id="1044" name="图片 8193" descr=""/>
            <p:cNvPicPr/>
            <p:nvPr/>
          </p:nvPicPr>
          <p:blipFill>
            <a:blip r:embed="rId1"/>
            <a:stretch/>
          </p:blipFill>
          <p:spPr>
            <a:xfrm>
              <a:off x="104760" y="115920"/>
              <a:ext cx="8934480" cy="577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5" name="图片 8194" descr=""/>
            <p:cNvPicPr/>
            <p:nvPr/>
          </p:nvPicPr>
          <p:blipFill>
            <a:blip r:embed="rId2"/>
            <a:stretch/>
          </p:blipFill>
          <p:spPr>
            <a:xfrm>
              <a:off x="1913040" y="6054840"/>
              <a:ext cx="3019320" cy="542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46" name="Picture 1" descr=""/>
          <p:cNvPicPr/>
          <p:nvPr/>
        </p:nvPicPr>
        <p:blipFill>
          <a:blip r:embed="rId3"/>
          <a:stretch/>
        </p:blipFill>
        <p:spPr>
          <a:xfrm>
            <a:off x="1116000" y="4508640"/>
            <a:ext cx="504720" cy="449280"/>
          </a:xfrm>
          <a:prstGeom prst="rect">
            <a:avLst/>
          </a:prstGeom>
          <a:ln w="0">
            <a:noFill/>
          </a:ln>
        </p:spPr>
      </p:pic>
      <p:pic>
        <p:nvPicPr>
          <p:cNvPr id="1047" name="Picture 1" descr=""/>
          <p:cNvPicPr/>
          <p:nvPr/>
        </p:nvPicPr>
        <p:blipFill>
          <a:blip r:embed="rId4"/>
          <a:stretch/>
        </p:blipFill>
        <p:spPr>
          <a:xfrm>
            <a:off x="1116000" y="1989000"/>
            <a:ext cx="504720" cy="449280"/>
          </a:xfrm>
          <a:prstGeom prst="rect">
            <a:avLst/>
          </a:prstGeom>
          <a:ln w="0">
            <a:noFill/>
          </a:ln>
        </p:spPr>
      </p:pic>
      <p:pic>
        <p:nvPicPr>
          <p:cNvPr id="1048" name="Picture 1" descr=""/>
          <p:cNvPicPr/>
          <p:nvPr/>
        </p:nvPicPr>
        <p:blipFill>
          <a:blip r:embed="rId5"/>
          <a:stretch/>
        </p:blipFill>
        <p:spPr>
          <a:xfrm>
            <a:off x="1116000" y="5373720"/>
            <a:ext cx="504720" cy="449280"/>
          </a:xfrm>
          <a:prstGeom prst="rect">
            <a:avLst/>
          </a:prstGeom>
          <a:ln w="0">
            <a:noFill/>
          </a:ln>
        </p:spPr>
      </p:pic>
      <p:pic>
        <p:nvPicPr>
          <p:cNvPr id="1049" name="Picture 1" descr=""/>
          <p:cNvPicPr/>
          <p:nvPr/>
        </p:nvPicPr>
        <p:blipFill>
          <a:blip r:embed="rId6"/>
          <a:stretch/>
        </p:blipFill>
        <p:spPr>
          <a:xfrm>
            <a:off x="1116000" y="1125360"/>
            <a:ext cx="504720" cy="449280"/>
          </a:xfrm>
          <a:prstGeom prst="rect">
            <a:avLst/>
          </a:prstGeom>
          <a:ln w="0">
            <a:noFill/>
          </a:ln>
        </p:spPr>
      </p:pic>
      <p:pic>
        <p:nvPicPr>
          <p:cNvPr id="1050" name="Picture 1" descr=""/>
          <p:cNvPicPr/>
          <p:nvPr/>
        </p:nvPicPr>
        <p:blipFill>
          <a:blip r:embed="rId7"/>
          <a:stretch/>
        </p:blipFill>
        <p:spPr>
          <a:xfrm>
            <a:off x="1187280" y="2852640"/>
            <a:ext cx="50508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2" dur="5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7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2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7" dur="5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2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53" name="图片 9217" descr=""/>
          <p:cNvPicPr/>
          <p:nvPr/>
        </p:nvPicPr>
        <p:blipFill>
          <a:blip r:embed="rId1"/>
          <a:stretch/>
        </p:blipFill>
        <p:spPr>
          <a:xfrm>
            <a:off x="576360" y="1352520"/>
            <a:ext cx="7991280" cy="4152960"/>
          </a:xfrm>
          <a:prstGeom prst="rect">
            <a:avLst/>
          </a:prstGeom>
          <a:ln w="0">
            <a:noFill/>
          </a:ln>
        </p:spPr>
      </p:pic>
      <p:pic>
        <p:nvPicPr>
          <p:cNvPr id="1054" name="Picture 1" descr=""/>
          <p:cNvPicPr/>
          <p:nvPr/>
        </p:nvPicPr>
        <p:blipFill>
          <a:blip r:embed="rId2"/>
          <a:stretch/>
        </p:blipFill>
        <p:spPr>
          <a:xfrm>
            <a:off x="1619280" y="2421000"/>
            <a:ext cx="504720" cy="449280"/>
          </a:xfrm>
          <a:prstGeom prst="rect">
            <a:avLst/>
          </a:prstGeom>
          <a:ln w="0">
            <a:noFill/>
          </a:ln>
        </p:spPr>
      </p:pic>
      <p:pic>
        <p:nvPicPr>
          <p:cNvPr id="1055" name="Picture 1" descr=""/>
          <p:cNvPicPr/>
          <p:nvPr/>
        </p:nvPicPr>
        <p:blipFill>
          <a:blip r:embed="rId3"/>
          <a:stretch/>
        </p:blipFill>
        <p:spPr>
          <a:xfrm>
            <a:off x="1692360" y="4149720"/>
            <a:ext cx="50472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9" dur="5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4" dur="5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58" name="图片 10241" descr=""/>
          <p:cNvPicPr/>
          <p:nvPr/>
        </p:nvPicPr>
        <p:blipFill>
          <a:blip r:embed="rId1"/>
          <a:stretch/>
        </p:blipFill>
        <p:spPr>
          <a:xfrm>
            <a:off x="1357200" y="1014480"/>
            <a:ext cx="6429600" cy="4829040"/>
          </a:xfrm>
          <a:prstGeom prst="rect">
            <a:avLst/>
          </a:prstGeom>
          <a:ln w="0">
            <a:noFill/>
          </a:ln>
        </p:spPr>
      </p:pic>
      <p:pic>
        <p:nvPicPr>
          <p:cNvPr id="1059" name="Picture 1" descr=""/>
          <p:cNvPicPr/>
          <p:nvPr/>
        </p:nvPicPr>
        <p:blipFill>
          <a:blip r:embed="rId2"/>
          <a:stretch/>
        </p:blipFill>
        <p:spPr>
          <a:xfrm>
            <a:off x="1763640" y="1052640"/>
            <a:ext cx="504720" cy="449280"/>
          </a:xfrm>
          <a:prstGeom prst="rect">
            <a:avLst/>
          </a:prstGeom>
          <a:ln w="0">
            <a:noFill/>
          </a:ln>
        </p:spPr>
      </p:pic>
      <p:pic>
        <p:nvPicPr>
          <p:cNvPr id="1060" name="Picture 1" descr=""/>
          <p:cNvPicPr/>
          <p:nvPr/>
        </p:nvPicPr>
        <p:blipFill>
          <a:blip r:embed="rId3"/>
          <a:stretch/>
        </p:blipFill>
        <p:spPr>
          <a:xfrm>
            <a:off x="1692360" y="3645000"/>
            <a:ext cx="50472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1" dur="5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6" dur="5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63" name="图片 12289" descr=""/>
          <p:cNvPicPr/>
          <p:nvPr/>
        </p:nvPicPr>
        <p:blipFill>
          <a:blip r:embed="rId1"/>
          <a:stretch/>
        </p:blipFill>
        <p:spPr>
          <a:xfrm>
            <a:off x="1609560" y="2257560"/>
            <a:ext cx="5924880" cy="2342880"/>
          </a:xfrm>
          <a:prstGeom prst="rect">
            <a:avLst/>
          </a:prstGeom>
          <a:ln w="0">
            <a:noFill/>
          </a:ln>
        </p:spPr>
      </p:pic>
      <p:pic>
        <p:nvPicPr>
          <p:cNvPr id="1064" name="Picture 1" descr=""/>
          <p:cNvPicPr/>
          <p:nvPr/>
        </p:nvPicPr>
        <p:blipFill>
          <a:blip r:embed="rId2"/>
          <a:stretch/>
        </p:blipFill>
        <p:spPr>
          <a:xfrm>
            <a:off x="2050920" y="2276640"/>
            <a:ext cx="505080" cy="44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3" dur="5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52:26Z</dcterms:created>
  <dc:creator>未知用户</dc:creator>
  <dc:description/>
  <dc:language>en-US</dc:language>
  <cp:lastModifiedBy>万润仪器贸易公司</cp:lastModifiedBy>
  <dcterms:modified xsi:type="dcterms:W3CDTF">2020-08-14T09:39:26Z</dcterms:modified>
  <cp:revision>5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